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FB9-0FE2-403C-B0DE-AFBB2F4E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BDF-7E5D-4AC0-9C36-F069C798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4FB-A502-445B-84F0-2925B799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136-7219-4ED7-9076-130767C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EBA-ACE9-4173-9070-9EF95181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A2A-2102-4422-8201-783903AD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299-236A-479D-9B7D-A69292C1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D43-9538-4942-98D7-4441E4F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3B8-7028-435A-9760-B465620E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EF74-8785-451A-B49F-E6FCA2C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B303-3D56-40AC-B3A6-8A7206F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6B4E-AE60-4A2D-A2B8-D3D8987C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16F5-8670-4B46-AD40-6BB6C46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21D-0DBD-4251-ACAF-69458B2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D2D-998D-4661-8792-0D4AF2F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7461-DC48-4A3E-8959-0459865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8052-50F9-4E5C-ADBB-01F0260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8673-4946-42BE-B42B-2665FFC5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8706-8C15-4C02-B342-BB3FEA2F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E90-76F4-40FC-95C6-A469D18A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CAE-1F75-4483-A6DF-8E8DBDE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5C1-B3E3-469F-897F-6893CCB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C8E-052C-470B-8BE9-AD264AFF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439-4408-4D77-B5D1-331B682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D46-F1E1-4F8B-A72E-EB08E07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E3A-595C-45F2-B35A-9BC4BA9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C4F-C1F2-4B4B-AB11-02D3E47DA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7EE7-93D2-4EB8-BA96-3CFE83AF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hyperlink" Target="http://www.tcu.gov.on.ca/eng/eopg/publications/87-1734E-es_participant_registration.doc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2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3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4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5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cu.gov.on.ca/eng/search.html" TargetMode="External"/><Relationship Id="rId2" Type="http://schemas.openxmlformats.org/officeDocument/2006/relationships/hyperlink" Target="http://www.ontario.ca/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18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he Career Foundation</a:t>
            </a:r>
            <a:br>
              <a:rPr sz="4800"/>
            </a:b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427200"/>
            <a:ext cx="738684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Employment Ontar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rientation S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3" descr="general"/>
          <p:cNvPicPr/>
          <p:nvPr/>
        </p:nvPicPr>
        <p:blipFill>
          <a:blip r:embed="rId1"/>
          <a:stretch/>
        </p:blipFill>
        <p:spPr>
          <a:xfrm>
            <a:off x="4572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careerfoundation.cxwa-dev.cyberplex.com/uploaded/tiny_mce/File/Marketing/tabs.jpg?preview=true?preview=true"/>
          <p:cNvPicPr/>
          <p:nvPr/>
        </p:nvPicPr>
        <p:blipFill>
          <a:blip r:embed="rId2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ed Eo.jpg"/>
          <p:cNvPicPr/>
          <p:nvPr/>
        </p:nvPicPr>
        <p:blipFill>
          <a:blip r:embed="rId3"/>
          <a:stretch/>
        </p:blipFill>
        <p:spPr>
          <a:xfrm>
            <a:off x="3200400" y="4800600"/>
            <a:ext cx="297180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ow to access Employment Ontario service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9" name="Picture 7" descr="general"/>
          <p:cNvPicPr/>
          <p:nvPr/>
        </p:nvPicPr>
        <p:blipFill>
          <a:blip r:embed="rId1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1295280" y="1523880"/>
            <a:ext cx="7313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RESOURCES &amp;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wish to use career/computer resources &amp; job search workshops to job search on your 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DIVIDUALIZED EMPLOYMENT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need one-to-one assistance to look for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the following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http://www.tcu.gov.on.ca/eng/eopg/publications/87-1734E-es_participant_registration.do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an appointment with an Employment Counsellor to assess employment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tain a customized Employment Service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job search coaching sessions until you get a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ffices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oronto West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Career Foundation. Ontario Employment Serv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obicoke Employment Centre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5-109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rence Square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3-006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on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89-486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YMCA of Greater Toronto. Employment and Community Services. Etobicok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bion Mall, 1530 Albion Rd Unit 83, Toronto, ON M9V 1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1-8714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3"/>
              </a:rPr>
              <a:t>Humber College. Ontario Employment Services. North Etobicoke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20 Albion Rd 2nd Fl, Toronto, ON M9V 4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8-72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5"/>
              </a:rPr>
              <a:t>PTP -- Adult Learning and Employment Programs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415 Dundas St West Ste 106, Toronto, ON M9B 1B5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9-880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JobStart. Ontario Employment Services. Lake Shore Boulevard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930 Lake Shore Blvd West, Toronto, ON M8V 1J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1-2295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unity MicroSkills Development Centr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Vulcan St, Toronto, ON M9W 1L3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7-718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http://careerfoundation.cxwa-dev.cyberplex.com/uploaded/tiny_mce/File/Marketing/tabs.jpg?preview=true?preview=true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ferral Proces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905120"/>
            <a:ext cx="731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ll the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Employment Ontario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 to set up a screening appoin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EER FOUNDATION REFERRAL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lient come into the Employment Ontario office with a completed Referral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eneral"/>
          <p:cNvPicPr/>
          <p:nvPr/>
        </p:nvPicPr>
        <p:blipFill>
          <a:blip r:embed="rId2"/>
          <a:stretch/>
        </p:blipFill>
        <p:spPr>
          <a:xfrm>
            <a:off x="45720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careerfoundation.cxwa-dev.cyberplex.com/uploaded/tiny_mce/File/Marketing/tabs.jpg?preview=true?preview=true"/>
          <p:cNvPicPr/>
          <p:nvPr/>
        </p:nvPicPr>
        <p:blipFill>
          <a:blip r:embed="rId4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Question &amp; Answer Period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3" name="Picture 2" descr="C:\Users\nicole\AppData\Local\Microsoft\Windows\Temporary Internet Files\Content.IE5\YUHZPDZH\MC900389266[1].wmf"/>
          <p:cNvPicPr/>
          <p:nvPr/>
        </p:nvPicPr>
        <p:blipFill>
          <a:blip r:embed="rId1"/>
          <a:stretch/>
        </p:blipFill>
        <p:spPr>
          <a:xfrm>
            <a:off x="358128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he Career Found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Would like to thank-you for your attend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Have a Great Da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3" descr="general"/>
          <p:cNvPicPr/>
          <p:nvPr/>
        </p:nvPicPr>
        <p:blipFill>
          <a:blip r:embed="rId1"/>
          <a:stretch/>
        </p:blipFill>
        <p:spPr>
          <a:xfrm>
            <a:off x="1752480" y="304920"/>
            <a:ext cx="6858000" cy="11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Full Suite Services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 STOP SHO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9b95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loyment services customized to meet job seeker’s individual nee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 Service Planning &amp;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&amp; Inform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ncluding referrals &amp; train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earch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Matching, Placements &amp;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Retention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general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ment Ontario Servic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unched in Ontario 2006 with the Apprenticeship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implemented across Ontario as of August 1st, 20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general"/>
          <p:cNvPicPr/>
          <p:nvPr/>
        </p:nvPicPr>
        <p:blipFill>
          <a:blip r:embed="rId1"/>
          <a:stretch/>
        </p:blipFill>
        <p:spPr>
          <a:xfrm>
            <a:off x="838080" y="114480"/>
            <a:ext cx="2057400" cy="79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help unemployed Ontar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le employ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ttp://careerfoundation.cxwa-dev.cyberplex.com/uploaded/tiny_mce/File/Marketing/tabs.jpg?preview=true?preview=true"/>
          <p:cNvPicPr/>
          <p:nvPr/>
        </p:nvPicPr>
        <p:blipFill>
          <a:blip r:embed="rId1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Vision of Employment Ontario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ducated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killed workforce in North America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to build the province’s competi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eneral"/>
          <p:cNvPicPr/>
          <p:nvPr/>
        </p:nvPicPr>
        <p:blipFill>
          <a:blip r:embed="rId2"/>
          <a:stretch/>
        </p:blipFill>
        <p:spPr>
          <a:xfrm>
            <a:off x="6858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mployment Ontario’s Service Promise will: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st quality of service and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individuals meet their career or hiring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to make it easier for individual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rove their ski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education and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no matter which Employment Ontario office an individual walks int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will get the help they n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s and commun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the highly skilled, highly educated workforce Ontario needs to be competit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general"/>
          <p:cNvPicPr/>
          <p:nvPr/>
        </p:nvPicPr>
        <p:blipFill>
          <a:blip r:embed="rId2"/>
          <a:stretch/>
        </p:blipFill>
        <p:spPr>
          <a:xfrm>
            <a:off x="609480" y="1522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Career Foundation offers the following through MTCU’s Employment Ontario model: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Client Service Planning &amp; Coordina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Service Pla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ferral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Resource &amp; Inform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bour market informatio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/career resour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on education &amp; training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puters/Interne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Searc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al assistance i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eer decision mak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oal sett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kills analysis &amp; interview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preparation and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Matching, Placement and Incentiv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 of skills and interest with employment opportunities and job seeker needs.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epending on training needs, incentives can be provid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5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Training and Reten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itional coaching and mentoring to maintain employment, complete training, or proceed to the next steps of your career path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uide to Services in Ontario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mployment Ontari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out how and where you can access many government servi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http://www.tcu.gov.on.ca/eng/search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www.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11 Ontario and Toront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easy access to community, social, health and related government servic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toronto.ca/splash.j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ettlement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information and answers to settle in Ont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settlement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eneral"/>
          <p:cNvPicPr/>
          <p:nvPr/>
        </p:nvPicPr>
        <p:blipFill>
          <a:blip r:embed="rId4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careerfoundation.cxwa-dev.cyberplex.com/uploaded/tiny_mce/File/Marketing/tabs.jpg?preview=true?preview=true"/>
          <p:cNvPicPr/>
          <p:nvPr/>
        </p:nvPicPr>
        <p:blipFill>
          <a:blip r:embed="rId5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Eligibility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INDEPENDENT JOB SEARCH -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UN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ll Ontari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1-1 ASSISTANCE IN JOB SEARCH -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nemployed: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working less than 20 hours per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Not in Full-time studies/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Legally entitled to work in Cana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Based on individual employment service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5:32:56Z</dcterms:created>
  <dc:creator>zaira</dc:creator>
  <dc:description/>
  <dc:language>en-US</dc:language>
  <cp:lastModifiedBy>aholmes</cp:lastModifiedBy>
  <cp:lastPrinted>2011-05-16T17:59:17Z</cp:lastPrinted>
  <dcterms:modified xsi:type="dcterms:W3CDTF">2011-07-08T18:59:11Z</dcterms:modified>
  <cp:revision>173</cp:revision>
  <dc:subject/>
  <dc:title>You’re Hired! Now what???</dc:title>
</cp:coreProperties>
</file>